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A2A2-812E-4DF8-BC56-219AECF0BE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E7F-7E85-42FF-BFB0-402B02F8C32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9F6-89F2-4E70-A058-4752A0AD46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90E-5B9A-4E83-933E-68D6954932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C6A-41AB-4A70-AF34-90AECAA90AF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19C2-3E9E-416D-924A-3FBBC4D16A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2C0-C10E-4396-86A0-B0EE165E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043-AC92-4D28-85D0-BA4B21B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76A-C680-4AF7-B0A0-61CA8BC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8EA-C2EC-48B9-BCB5-0D5B03F3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C65-032A-4641-BDC4-59D91EE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CB6-E90D-4DFB-97B6-57BF10F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E3D-BEBC-4F6C-85D8-7D2013F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704-F465-4C34-B91C-E2527396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8AF-2DC6-4F5A-8136-2D52E7F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9FF-B655-40A3-A12C-4A71911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107-06CF-48A1-850A-4805988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0F3-2084-417F-8F14-D162E2C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16AD-854B-433B-9755-B5FB0E2D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 &amp;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04-03T12:28:45Z</dcterms:modified>
  <cp:revision>103</cp:revision>
  <dc:subject/>
  <dc:title>Slide 1</dc:title>
</cp:coreProperties>
</file>